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310-5A81-4D8A-9BB3-8E75AAE1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2D6-5429-42F5-8138-A3C5F1C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E95-E8E2-4666-BE44-B3DB3D81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B33-D6E1-406B-9F85-8112E12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AA0-26EA-4A88-901A-8AAC263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207-EA11-412E-8963-4B9A064C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781-3F8F-4D36-A67D-DFEC73C8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CA-FD44-4B07-BC55-3259D68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6F3-CB29-42A2-B974-CEC0D6F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0FF-E763-4D86-AEBD-478D30F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590-EC57-4EDC-B1B9-7978D797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777-F463-457D-82F1-07412DB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3DBD-F4F0-452C-941B-5E684BF0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iled, step-by-step directions for conducting a science experiment (investigation) which allows du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xperimental Gr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ed to all conditions of the experiment except the experimental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one factor in an experiment that is determined and changed by the experimenter.   Usually graphed on the x-axis.  (Manipulated Variabl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Dependent Vari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factor measured or observed to obtain. Usually graphed on the y-axis.  (Responding Variabl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581280"/>
            <a:ext cx="671400" cy="533520"/>
          </a:xfrm>
          <a:prstGeom prst="rightArrow">
            <a:avLst>
              <a:gd name="adj1" fmla="val 50000"/>
              <a:gd name="adj2" fmla="val 314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581280"/>
            <a:ext cx="671400" cy="533520"/>
          </a:xfrm>
          <a:prstGeom prst="rightArrow">
            <a:avLst>
              <a:gd name="adj1" fmla="val 50000"/>
              <a:gd name="adj2" fmla="val 314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505320"/>
            <a:ext cx="671400" cy="533160"/>
          </a:xfrm>
          <a:prstGeom prst="rightArrow">
            <a:avLst>
              <a:gd name="adj1" fmla="val 50000"/>
              <a:gd name="adj2" fmla="val 314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11937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15238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162920" y="2590920"/>
            <a:ext cx="1981080" cy="197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257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transferred from one organism to another in a food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s. Ri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429000"/>
            <a:ext cx="3276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800" y="4456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257440" y="28951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514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14600" y="26668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5053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oa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733920"/>
            <a:ext cx="1523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3200040"/>
            <a:ext cx="5029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77840" y="3008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181480" y="2437920"/>
            <a:ext cx="9907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7800" y="2093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971800" y="2209680"/>
            <a:ext cx="1905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8640" y="1865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81080" y="22093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742840" y="2209320"/>
            <a:ext cx="33526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047760" y="2057040"/>
            <a:ext cx="4267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67640" y="3668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4800" y="3962520"/>
            <a:ext cx="2819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89548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209680"/>
            <a:ext cx="3886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co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=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e =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 Chain, Food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es (Climate, Rain, Temp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(Numb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ersity (Difference in Gro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3:21:03Z</dcterms:created>
  <dc:creator>Sterling Grade School</dc:creator>
  <dc:description/>
  <dc:language>en-US</dc:language>
  <cp:lastModifiedBy>Sterling Grade School</cp:lastModifiedBy>
  <dcterms:modified xsi:type="dcterms:W3CDTF">2010-04-21T21:28:59Z</dcterms:modified>
  <cp:revision>3</cp:revision>
  <dc:subject/>
  <dc:title>Experimental Procedure</dc:title>
</cp:coreProperties>
</file>